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4A5B-2E0A-4C20-B3EE-37218C6F0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5895-233A-4A0D-BEA8-560AB9B6C9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1E0F-1861-46B3-83EB-B67581ADD7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0753-9677-490E-A7F6-117BEFCE0D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B704-AECA-4DBF-A505-4FA26EE9B4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E794-81A8-497F-A348-9A676CDF7C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9475-108A-4B57-9C11-4D043606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281C-022C-4510-82B3-7FB3173D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9504-4DE6-4505-B9E6-17E45D83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CA8-4760-4364-9D79-AC618161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0206-07E4-4B0D-8BC9-C99EDFA3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EF92-4665-419A-8C4E-7EF3FCE1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0F66-1A8A-443E-9135-23EAF076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84D3-CFEB-4FD2-A5C0-5713114E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39A6-1CB1-4ADD-B63B-04834A9D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213D-560C-4AD0-8AA4-BCE53880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B592-E943-4BA3-878B-4737A6ED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7E01-198E-4D0C-9131-007C3675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CB5A-D28E-4DBD-B6CA-DFAD9066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72DE-8056-4FFE-88BB-3BBBC826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4957-75A6-4759-A4A1-A0F79E99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2F60-8883-40E4-895C-CB84680A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EDCF-2D2D-4EFC-89C5-1C177D3C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A44-BFD4-43AE-AC7E-FFBA448C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E133-1AAF-48D3-8F95-18E92502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63DE-029A-490E-84FE-29D97FFE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BF94-2E72-41B3-8679-C945DF3E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6ECA-8B58-454D-A90F-6FD2C1F5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D54E-4CBF-47FB-ABC3-EF1EBFB2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70F7-4D28-4493-8592-86534A42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8F76-0467-4D9D-B027-F714EFF28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CEB9-831D-47AA-B3A9-55B910FAF9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JUST THE FACTS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NQ #1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use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at were the two primary grievances the colonists had with England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2209680" y="3406680"/>
            <a:ext cx="4426200" cy="29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Who was the president of the Second Continental Congres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744640" y="3452760"/>
            <a:ext cx="3654720" cy="27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According to John Adams, who had the reputation of a “masterly pen?”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5800" y="2819160"/>
            <a:ext cx="7772400" cy="3276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3048120" y="2908440"/>
            <a:ext cx="2842920" cy="36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4160" y="-76320"/>
            <a:ext cx="8634240" cy="483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at delegate to the Second Continental Congress introduced the resolution that the American Colonies should separate themselves from England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886200" y="48769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34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at is the meeting of British troops and colonial militia in the towns of Lexington and Concord better known a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2581200" y="3809880"/>
            <a:ext cx="3981600" cy="263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1-27T16:14:05Z</dcterms:modified>
  <cp:revision>139</cp:revision>
  <dc:subject/>
  <dc:title>D/O: TO EXPLAIN AND IDENTIFY PROBLEMS OF ECONOMICS</dc:title>
</cp:coreProperties>
</file>